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114F-30C7-424F-B7E2-63782E286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35BF-E737-4694-B869-48F1FBD3A8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3D2A-F40B-4901-BF35-50828B1D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D124-F657-4F24-8009-062548EC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FC83-50CF-4B2B-A113-2A66DEA9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09CA-14F7-4098-9F29-4CFD2A31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AA9A-97EB-4B27-A40B-44A3AD54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44DA-885E-478A-90AB-C0DB84D5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93F4-B86C-407F-BE04-B31EB2B8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1FA-D305-4896-AD4E-F1006C5F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55D-EF62-4237-9C47-3A7BFB8A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0810-5AE6-452B-B968-F545A9DC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377-965E-4320-B27A-71DF20C5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7C5-0CEE-4EDC-9239-701F6305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0AB0-D20D-4499-AEEE-618D697564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senske.wikispaces.com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-231840" y="-225360"/>
            <a:ext cx="9375840" cy="3992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04920" y="403704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Please find your seat (name on note car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4"/>
          <p:cNvSpPr/>
          <p:nvPr/>
        </p:nvSpPr>
        <p:spPr>
          <a:xfrm>
            <a:off x="838080" y="8380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Final Exam = 14%, all M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Rectangle 6" descr=""/>
          <p:cNvPicPr/>
          <p:nvPr/>
        </p:nvPicPr>
        <p:blipFill>
          <a:blip r:embed="rId1"/>
          <a:stretch/>
        </p:blipFill>
        <p:spPr>
          <a:xfrm>
            <a:off x="92160" y="146160"/>
            <a:ext cx="9051840" cy="768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7"/>
          <p:cNvSpPr/>
          <p:nvPr/>
        </p:nvSpPr>
        <p:spPr>
          <a:xfrm>
            <a:off x="838080" y="16398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Core Assessments = 3% each, in cla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Rectangle 8" descr=""/>
          <p:cNvPicPr/>
          <p:nvPr/>
        </p:nvPicPr>
        <p:blipFill>
          <a:blip r:embed="rId2"/>
          <a:stretch/>
        </p:blipFill>
        <p:spPr>
          <a:xfrm>
            <a:off x="2822400" y="2822400"/>
            <a:ext cx="3133800" cy="920880"/>
          </a:xfrm>
          <a:prstGeom prst="rect">
            <a:avLst/>
          </a:prstGeom>
          <a:ln w="0">
            <a:noFill/>
          </a:ln>
        </p:spPr>
      </p:pic>
      <p:sp>
        <p:nvSpPr>
          <p:cNvPr id="99" name="TextBox 10"/>
          <p:cNvSpPr/>
          <p:nvPr/>
        </p:nvSpPr>
        <p:spPr>
          <a:xfrm>
            <a:off x="914400" y="3733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Before 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914400" y="45356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After school certain days (check firs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914400" y="52578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4"/>
          <p:cNvSpPr/>
          <p:nvPr/>
        </p:nvSpPr>
        <p:spPr>
          <a:xfrm>
            <a:off x="914400" y="60804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rking Perio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W = 10%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asswork = 2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Quizzes/Tests/Projects = 7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Rectangle 6" descr=""/>
          <p:cNvPicPr/>
          <p:nvPr/>
        </p:nvPicPr>
        <p:blipFill>
          <a:blip r:embed="rId1"/>
          <a:stretch/>
        </p:blipFill>
        <p:spPr>
          <a:xfrm>
            <a:off x="3309840" y="-85680"/>
            <a:ext cx="2444760" cy="92700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8" descr=""/>
          <p:cNvPicPr/>
          <p:nvPr/>
        </p:nvPicPr>
        <p:blipFill>
          <a:blip r:embed="rId2"/>
          <a:stretch/>
        </p:blipFill>
        <p:spPr>
          <a:xfrm>
            <a:off x="1828800" y="3352680"/>
            <a:ext cx="5578560" cy="9208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1828800" y="41148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MP1 = 40%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1828800" y="47242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MP2 = 4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1828800" y="53341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Final Exam = 14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Assessments = 6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3" descr=""/>
          <p:cNvPicPr/>
          <p:nvPr/>
        </p:nvPicPr>
        <p:blipFill>
          <a:blip r:embed="rId1"/>
          <a:stretch/>
        </p:blipFill>
        <p:spPr>
          <a:xfrm>
            <a:off x="3151080" y="536400"/>
            <a:ext cx="2725920" cy="9208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304920" y="160020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cnelis.wikispaces.com</a:t>
            </a:r>
            <a:r>
              <a:rPr b="0" lang="en-US" sz="48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685800" y="304920"/>
            <a:ext cx="7620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E-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get out a piece of paper, put your name at the to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the following on the pap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380880" y="76320"/>
            <a:ext cx="89154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A BAR CHART FROM THE FOLLOWING DATA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y affiliations in a sample of Bucks County resident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152280" y="76320"/>
            <a:ext cx="8915400" cy="67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CREATE A PIE CHART FROM THE FOLLOWING DATA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tings from a sample of 2007 movie releases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G-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G-1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G-1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G-1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G-1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152280" y="0"/>
            <a:ext cx="87631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) CREATE A STEMPLOT FROM THE FOLLOWING DATA: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mall sample of pitch speeds from an MLB pitcher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5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0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7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9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3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4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8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8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79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152280" y="0"/>
            <a:ext cx="876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) WRITE DOWN HOW OLD YOU THINK I AM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nt: I have graduated from college (22) and am younger than 45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14264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pages 2-3. Flip through the book when don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id you notice about this textbook compared to textbooks from other math classe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books!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90560" y="1295280"/>
            <a:ext cx="60958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parts of a complete answer. The tell part is usually the most important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examples to follow when doing your homework and classwork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be used as closure activit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portant Parts of this Textbook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914400" cy="1699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2141640" cy="914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1066680" y="5203800"/>
            <a:ext cx="99072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228600" y="1522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lease take a textbook  from the counter at the back of the ro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04920" y="210492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lease look over the book for any probl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cord your book number and any problems on the sheet being passed aroun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0666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section for helping you not make common mistak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86760" cy="685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533520" y="2666880"/>
            <a:ext cx="5475240" cy="914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3"/>
          <a:stretch/>
        </p:blipFill>
        <p:spPr>
          <a:xfrm>
            <a:off x="838080" y="4572000"/>
            <a:ext cx="1524240" cy="492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4"/>
          <a:stretch/>
        </p:blipFill>
        <p:spPr>
          <a:xfrm>
            <a:off x="914400" y="5410080"/>
            <a:ext cx="1266840" cy="457200"/>
          </a:xfrm>
          <a:prstGeom prst="rect">
            <a:avLst/>
          </a:prstGeom>
          <a:ln w="0">
            <a:noFill/>
          </a:ln>
        </p:spPr>
      </p:pic>
      <p:sp>
        <p:nvSpPr>
          <p:cNvPr id="127" name="Content Placeholder 1"/>
          <p:cNvSpPr/>
          <p:nvPr/>
        </p:nvSpPr>
        <p:spPr>
          <a:xfrm>
            <a:off x="380880" y="3581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pter Summa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Content Placeholder 1"/>
          <p:cNvSpPr/>
          <p:nvPr/>
        </p:nvSpPr>
        <p:spPr>
          <a:xfrm>
            <a:off x="2286000" y="4648320"/>
            <a:ext cx="6248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finitions with page numb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Content Placeholder 1"/>
          <p:cNvSpPr/>
          <p:nvPr/>
        </p:nvSpPr>
        <p:spPr>
          <a:xfrm>
            <a:off x="2209680" y="5410080"/>
            <a:ext cx="624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nk; Show; Tell agai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2 - Dat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457200" y="838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Read p. 7 to middle of p. 9 in the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57200" y="163044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Context of the data is absolutely essential before we do anything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57200" y="32306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The W’s (and H): Who, What, When, Where, Why, H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57200" y="4297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Data tables help organize th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457200" y="48672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Each row of a data table is called an individual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3"/>
          <p:cNvSpPr/>
          <p:nvPr/>
        </p:nvSpPr>
        <p:spPr>
          <a:xfrm>
            <a:off x="304920" y="2286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Individuals do not always mean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304920" y="23623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Cases are usually from a SAMPLE of a larger POPULATION (hopefully representati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457200" y="11430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Individuals = the things that we want to collect data from.  People, animals, car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304920" y="35719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POPULATION = ALL individuals that we want to conclude a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325440" y="480204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AMPLE = small group of the population that we actually collect data from.  Use this data to conclude about the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38088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to middle of p. 1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s are the “WHAT” of the data- things that were observed or collect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types of variabl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tegorical: variable that names categories (words or numeric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ative: variable with numeric values, makes sense to take an averag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ust have unit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1023840" indent="-514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xamples: Colleges/Universit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6854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. 17      #13-1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online Quia survey by midnight tonight! See wikispace for link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Ch. 1 -- 3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t Ch. 3 notes for tmrw! (if you want them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t formula sheet for the cour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t page of fact sheet filled out &amp; signed- DUE FRIDA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3" descr=""/>
          <p:cNvPicPr/>
          <p:nvPr/>
        </p:nvPicPr>
        <p:blipFill>
          <a:blip r:embed="rId1"/>
          <a:stretch/>
        </p:blipFill>
        <p:spPr>
          <a:xfrm>
            <a:off x="384120" y="-60480"/>
            <a:ext cx="8302680" cy="1541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609480" y="1143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Grew up in Philly and N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609480" y="1868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Went to Virginia Te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609480" y="39258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Enjoy running (half marathons, 10K, etc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09480" y="4611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Coach X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609480" y="52974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Teach AP Stat, Stat &amp; Data Analysis, and Applied M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609480" y="26100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Graduated with degree in Math, minors in Spanish and Stati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4"/>
          <p:cNvSpPr/>
          <p:nvPr/>
        </p:nvSpPr>
        <p:spPr>
          <a:xfrm>
            <a:off x="1447920" y="1182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Gathering &amp; analyzing dat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1447920" y="200016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Making conclusions from data…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oth small and broa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Rectangle 6" descr=""/>
          <p:cNvPicPr/>
          <p:nvPr/>
        </p:nvPicPr>
        <p:blipFill>
          <a:blip r:embed="rId1"/>
          <a:stretch/>
        </p:blipFill>
        <p:spPr>
          <a:xfrm>
            <a:off x="2060640" y="152280"/>
            <a:ext cx="5387760" cy="920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1447920" y="3352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Combination of Math and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Writ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5"/>
          <p:cNvSpPr/>
          <p:nvPr/>
        </p:nvSpPr>
        <p:spPr>
          <a:xfrm>
            <a:off x="1285920" y="8017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3 ring bi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1295280" y="14875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Bo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Rectangle 8" descr=""/>
          <p:cNvPicPr/>
          <p:nvPr/>
        </p:nvPicPr>
        <p:blipFill>
          <a:blip r:embed="rId1"/>
          <a:stretch/>
        </p:blipFill>
        <p:spPr>
          <a:xfrm>
            <a:off x="2730600" y="-36360"/>
            <a:ext cx="2908080" cy="9205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0"/>
          <p:cNvSpPr/>
          <p:nvPr/>
        </p:nvSpPr>
        <p:spPr>
          <a:xfrm>
            <a:off x="1295280" y="21733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CALCULATOR: 83+, 84, or 84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Rectangle 11" descr=""/>
          <p:cNvPicPr/>
          <p:nvPr/>
        </p:nvPicPr>
        <p:blipFill>
          <a:blip r:embed="rId2"/>
          <a:stretch/>
        </p:blipFill>
        <p:spPr>
          <a:xfrm>
            <a:off x="2262240" y="2846520"/>
            <a:ext cx="3846600" cy="920520"/>
          </a:xfrm>
          <a:prstGeom prst="rect">
            <a:avLst/>
          </a:prstGeom>
          <a:ln w="0">
            <a:noFill/>
          </a:ln>
        </p:spPr>
      </p:pic>
      <p:sp>
        <p:nvSpPr>
          <p:cNvPr id="68" name="TextBox 12"/>
          <p:cNvSpPr/>
          <p:nvPr/>
        </p:nvSpPr>
        <p:spPr>
          <a:xfrm>
            <a:off x="1285920" y="37735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Personal Responsibility &amp; Resp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1295280" y="44593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College student behavi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1295280" y="51451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Cell phone poli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4"/>
          <p:cNvSpPr/>
          <p:nvPr/>
        </p:nvSpPr>
        <p:spPr>
          <a:xfrm>
            <a:off x="1295280" y="3733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Tough grading… pick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1295280" y="9907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WILL prepare you for the exam (whether you are taking it or no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Rectangle 6" descr=""/>
          <p:cNvPicPr/>
          <p:nvPr/>
        </p:nvPicPr>
        <p:blipFill>
          <a:blip r:embed="rId1"/>
          <a:stretch/>
        </p:blipFill>
        <p:spPr>
          <a:xfrm>
            <a:off x="1944720" y="152280"/>
            <a:ext cx="5473800" cy="920880"/>
          </a:xfrm>
          <a:prstGeom prst="rect">
            <a:avLst/>
          </a:prstGeom>
          <a:ln w="0">
            <a:noFill/>
          </a:ln>
        </p:spPr>
      </p:pic>
      <p:sp>
        <p:nvSpPr>
          <p:cNvPr id="74" name="TextBox 10"/>
          <p:cNvSpPr/>
          <p:nvPr/>
        </p:nvSpPr>
        <p:spPr>
          <a:xfrm>
            <a:off x="1295280" y="2401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FAST PAC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1295280" y="3087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Work Load (College leve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4"/>
          <p:cNvSpPr/>
          <p:nvPr/>
        </p:nvSpPr>
        <p:spPr>
          <a:xfrm>
            <a:off x="1295280" y="9540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 FRIDAY, MAY 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, 12:00 p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295280" y="1716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Review sessions at night in Apr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Rectangle 6" descr=""/>
          <p:cNvPicPr/>
          <p:nvPr/>
        </p:nvPicPr>
        <p:blipFill>
          <a:blip r:embed="rId1"/>
          <a:stretch/>
        </p:blipFill>
        <p:spPr>
          <a:xfrm>
            <a:off x="3309840" y="79200"/>
            <a:ext cx="2878200" cy="920880"/>
          </a:xfrm>
          <a:prstGeom prst="rect">
            <a:avLst/>
          </a:prstGeom>
          <a:ln w="0">
            <a:noFill/>
          </a:ln>
        </p:spPr>
      </p:pic>
      <p:sp>
        <p:nvSpPr>
          <p:cNvPr id="79" name="TextBox 7"/>
          <p:cNvSpPr/>
          <p:nvPr/>
        </p:nvSpPr>
        <p:spPr>
          <a:xfrm>
            <a:off x="1295280" y="24019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Strongly encouraged to take ex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1295280" y="3087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College credit, saving $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4"/>
          <p:cNvSpPr/>
          <p:nvPr/>
        </p:nvSpPr>
        <p:spPr>
          <a:xfrm>
            <a:off x="2514600" y="914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Absences, Lates, Cu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Rectangle 6" descr=""/>
          <p:cNvPicPr/>
          <p:nvPr/>
        </p:nvPicPr>
        <p:blipFill>
          <a:blip r:embed="rId1"/>
          <a:stretch/>
        </p:blipFill>
        <p:spPr>
          <a:xfrm>
            <a:off x="2895480" y="0"/>
            <a:ext cx="3492720" cy="92088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8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768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9"/>
          <p:cNvSpPr/>
          <p:nvPr/>
        </p:nvSpPr>
        <p:spPr>
          <a:xfrm>
            <a:off x="1600200" y="28954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Amou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1600200" y="35812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Gra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1600200" y="42670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Late assignment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W = ½ cred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4"/>
          <p:cNvSpPr/>
          <p:nvPr/>
        </p:nvSpPr>
        <p:spPr>
          <a:xfrm>
            <a:off x="1905120" y="838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Announced/unannounc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1905120" y="154296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Calculators- allowed on all, cleared before &amp; af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Rectangle 6" descr=""/>
          <p:cNvPicPr/>
          <p:nvPr/>
        </p:nvPicPr>
        <p:blipFill>
          <a:blip r:embed="rId1"/>
          <a:stretch/>
        </p:blipFill>
        <p:spPr>
          <a:xfrm>
            <a:off x="384120" y="0"/>
            <a:ext cx="8478720" cy="92088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8" descr=""/>
          <p:cNvPicPr/>
          <p:nvPr/>
        </p:nvPicPr>
        <p:blipFill>
          <a:blip r:embed="rId2"/>
          <a:stretch/>
        </p:blipFill>
        <p:spPr>
          <a:xfrm>
            <a:off x="2895480" y="4376880"/>
            <a:ext cx="2494080" cy="920520"/>
          </a:xfrm>
          <a:prstGeom prst="rect">
            <a:avLst/>
          </a:prstGeom>
          <a:ln w="0">
            <a:noFill/>
          </a:ln>
        </p:spPr>
      </p:pic>
      <p:sp>
        <p:nvSpPr>
          <p:cNvPr id="91" name="TextBox 9"/>
          <p:cNvSpPr/>
          <p:nvPr/>
        </p:nvSpPr>
        <p:spPr>
          <a:xfrm>
            <a:off x="1905120" y="5297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Amount (3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905120" y="59832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Grading &amp; Late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1905120" y="2782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MC &amp; F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1905120" y="3468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Re-te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1:19:48Z</dcterms:created>
  <dc:creator>Lauren Senske</dc:creator>
  <dc:description/>
  <dc:language>en-US</dc:language>
  <cp:lastModifiedBy>MCNELIS, LAUREN</cp:lastModifiedBy>
  <dcterms:modified xsi:type="dcterms:W3CDTF">2013-02-01T21:36:55Z</dcterms:modified>
  <cp:revision>115</cp:revision>
  <dc:subject/>
  <dc:title>Slide 1</dc:title>
</cp:coreProperties>
</file>